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137D4-09C8-46F8-A6C0-4C4F25E7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9FBA8-C5BA-4932-B837-947DE030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2204-68A6-48C7-96EB-7CC625F0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6E502-F6FD-4986-981C-2A78BF8B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E8CD-765F-4DA9-AD5A-AA9DBCB7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63BC-2546-47B6-9F32-D94A1CDE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B7EB-30A7-4622-B695-27BB3C39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9CD6-F1ED-4CBE-AB52-A6549630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FECD-C37D-41E6-AB6A-402DF615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A6E2-E4C9-49D0-AB7F-1543FB19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46C4-D273-47B2-960F-CFC21838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36138-81D6-49E3-AD79-3F21FF1D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79EF-8514-4EFE-AEFE-478E1FD5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B51F-6ACC-4342-AAFD-50AD4BD3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B4FE-BA06-4209-B1A5-AD7558D6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A4C4-0DD0-46E0-9B52-FD83358F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0A12-66D2-47F4-B1DD-8CA0BF51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AF5F2-E9F4-48DD-9F0C-9EDFBF18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0441C-92D7-4A56-97FD-4DD12662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7FF3F-30BC-48AA-902D-DAA3226F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99615-060A-483B-90B3-1ACF63EA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8BAE-0748-43DF-AF58-84A1D19F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9D45-690A-4D2B-9A0A-B6FF7C24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0A7F2-FAF4-4BC8-AC8A-E74C477F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AE47-07AC-4F16-8858-285B99A7BD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Группа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Прямоуг.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рямоуг.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Прямоуг.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Прямоуг.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Прямоуг.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Прямоуг.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Прямоуг.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Прямоуг.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Прямоуг.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Прямоуг.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Прямоуг.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Группа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Прямоуг.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Прямоуг.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Прямоуг.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Прямоуг.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Прямоуг.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Прямоуг.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Прямоуг.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Прямоуг.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Прямоуг.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Прямоуг.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9404-7964-4342-BC0F-D210EAC297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9840" y="1125360"/>
            <a:ext cx="87138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</a:rPr>
              <a:t>Чем является куб для нас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5" descr="670556"/>
          <p:cNvPicPr/>
          <p:nvPr/>
        </p:nvPicPr>
        <p:blipFill>
          <a:blip r:embed="rId1"/>
          <a:stretch/>
        </p:blipFill>
        <p:spPr>
          <a:xfrm>
            <a:off x="395280" y="2924280"/>
            <a:ext cx="824400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о время как сфера в качестве изначального состояния олицетворяет циклическое состояние и движение, куб является финальной стадией этого цикла в неподвижности, и символически вписывается в к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2" descr="111"/>
          <p:cNvPicPr/>
          <p:nvPr/>
        </p:nvPicPr>
        <p:blipFill>
          <a:blip r:embed="rId1"/>
          <a:stretch/>
        </p:blipFill>
        <p:spPr>
          <a:xfrm>
            <a:off x="826920" y="0"/>
            <a:ext cx="2376720" cy="22575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3" descr="2222"/>
          <p:cNvPicPr/>
          <p:nvPr/>
        </p:nvPicPr>
        <p:blipFill>
          <a:blip r:embed="rId2"/>
          <a:stretch/>
        </p:blipFill>
        <p:spPr>
          <a:xfrm>
            <a:off x="6084720" y="4371840"/>
            <a:ext cx="2522880" cy="24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. 10"/>
          <p:cNvSpPr/>
          <p:nvPr/>
        </p:nvSpPr>
        <p:spPr>
          <a:xfrm>
            <a:off x="539640" y="1413000"/>
            <a:ext cx="820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уб является истиной, которая все время одинакова как на нее ни посмотри. Это завершенность, стабильность, статическое совершенство, безукоризненный закон. Это также сложенный кре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2" descr="222"/>
          <p:cNvPicPr/>
          <p:nvPr/>
        </p:nvPicPr>
        <p:blipFill>
          <a:blip r:embed="rId1"/>
          <a:stretch/>
        </p:blipFill>
        <p:spPr>
          <a:xfrm>
            <a:off x="4859280" y="3716280"/>
            <a:ext cx="3587760" cy="28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. 19"/>
          <p:cNvSpPr/>
          <p:nvPr/>
        </p:nvSpPr>
        <p:spPr>
          <a:xfrm>
            <a:off x="395280" y="836640"/>
            <a:ext cx="727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радиционной архитектуре куб как символ стабильности используется в качестве фундаментального камня-основания нижней части здания вкупе с округлостью свода в качестве выс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0" descr="cube"/>
          <p:cNvPicPr/>
          <p:nvPr/>
        </p:nvPicPr>
        <p:blipFill>
          <a:blip r:embed="rId1"/>
          <a:stretch/>
        </p:blipFill>
        <p:spPr>
          <a:xfrm>
            <a:off x="4284720" y="3284640"/>
            <a:ext cx="4457520" cy="31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. 17"/>
          <p:cNvSpPr/>
          <p:nvPr/>
        </p:nvSpPr>
        <p:spPr>
          <a:xfrm>
            <a:off x="0" y="907920"/>
            <a:ext cx="782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китайцев куб - божество Земли, тогда как сфера является небесным симво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. 18"/>
          <p:cNvSpPr/>
          <p:nvPr/>
        </p:nvSpPr>
        <p:spPr>
          <a:xfrm>
            <a:off x="0" y="2708280"/>
            <a:ext cx="70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исламе Кааба - это куб, стабильность, статическое соверш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. 19"/>
          <p:cNvSpPr/>
          <p:nvPr/>
        </p:nvSpPr>
        <p:spPr>
          <a:xfrm>
            <a:off x="2940120" y="2060640"/>
            <a:ext cx="62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евреев куб - это Святая Свят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. 20"/>
          <p:cNvSpPr/>
          <p:nvPr/>
        </p:nvSpPr>
        <p:spPr>
          <a:xfrm>
            <a:off x="3086280" y="3860640"/>
            <a:ext cx="60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майя куб - Земля; Древо Жизни растет из центра ку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1" descr="2641053"/>
          <p:cNvPicPr/>
          <p:nvPr/>
        </p:nvPicPr>
        <p:blipFill>
          <a:blip r:embed="rId1"/>
          <a:stretch/>
        </p:blipFill>
        <p:spPr>
          <a:xfrm>
            <a:off x="250920" y="4005360"/>
            <a:ext cx="2663640" cy="25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84692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300" spc="-1" strike="noStrike">
                <a:solidFill>
                  <a:srgbClr val="ce5308"/>
                </a:solidFill>
                <a:latin typeface="Arial"/>
              </a:rPr>
              <a:t>Спасибо за внимание!!!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1:12:12Z</dcterms:created>
  <dc:creator>Admin</dc:creator>
  <dc:description/>
  <dc:language>en-US</dc:language>
  <cp:lastModifiedBy>26529</cp:lastModifiedBy>
  <dcterms:modified xsi:type="dcterms:W3CDTF">2010-06-04T10:11:46Z</dcterms:modified>
  <cp:revision>11</cp:revision>
  <dc:subject/>
  <dc:title>КУБ И ЕГО СВОЙСТВА</dc:title>
</cp:coreProperties>
</file>